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1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5560" y="49860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February 1999 (1.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10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11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32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n export translator is able to export only a subset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43120" y="2019240"/>
            <a:ext cx="7410240" cy="38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3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ITE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'SIT00001', $, 'undefined', $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$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4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TRUCTURE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'STR00001', $, 'undefined'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3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5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NALYSIS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'ANL00001', $, .STATIC., $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$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6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NALYSIS_MODEL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'ANM00001', $, $, .SPACE_FRAME., $, 8, 8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$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7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BOUNDARY_CONDITION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1, $, 0.00000000E+000, 0.00000000E+000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0.00000000E+000, 0.00000000E+000, 0.00000000E+000, 0.00000000E+000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$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$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8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RELEASE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1, $, -1.00000000E+000, -1.00000000E+000, -1.00000000E+000, -1.00000000E+000, -1.00000000E+000, -1.00000000E+000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$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OINT(.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RTESIAN_PT., 0.00000000E+000, 0.00000000E+000, 0.00000000E+000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20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DE(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9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7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6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$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33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OINT(.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RTESIAN_PT., 0.00000000E+000, 0.00000000E+000, 6.00000000E+003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34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NODE(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5, $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33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7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#16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, $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95000" y="4876920"/>
            <a:ext cx="196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Item 2.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Item 3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6600" y="16747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t 21 Fil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53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54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only a subset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light key stages (and difficult asp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ers to corresponding Workshop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al presentation of the total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6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9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9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PM/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only a subset of the neutral data structure defined by LPM/5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subsets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9040" y="205740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545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subsets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cope and specify 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&gt;=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2.3 + Item 2.4 + Item 2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5257800"/>
            <a:ext cx="5029200" cy="53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224360" y="2590920"/>
            <a:ext cx="4124880" cy="2057400"/>
            <a:chOff x="1224360" y="2590920"/>
            <a:chExt cx="4124880" cy="2057400"/>
          </a:xfrm>
        </p:grpSpPr>
        <p:sp>
          <p:nvSpPr>
            <p:cNvPr id="231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4360" y="2590920"/>
              <a:ext cx="4124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/5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34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/5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42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5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8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9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29200" y="1981080"/>
            <a:ext cx="3892680" cy="685800"/>
            <a:chOff x="5029200" y="1981080"/>
            <a:chExt cx="3892680" cy="685800"/>
          </a:xfrm>
        </p:grpSpPr>
        <p:sp>
          <p:nvSpPr>
            <p:cNvPr id="255" name=""/>
            <p:cNvSpPr/>
            <p:nvPr/>
          </p:nvSpPr>
          <p:spPr>
            <a:xfrm>
              <a:off x="5029200" y="2057400"/>
              <a:ext cx="389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Item 1.6 + Item 1.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1981080"/>
              <a:ext cx="3276360" cy="685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 (Technical Corundum 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9320" y="54100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xport Trans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6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8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9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9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1.3 + Item 1.5 + Item 2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2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6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514600" y="59436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1.4 (dem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chnical practica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tem 2.3 + Item 2.4 + Item 2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09320" y="373392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5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Times New Roman"/>
              </a:rPr>
              <a:t>where does each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5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5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969696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tem 1.3 + Item 1.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tem 1.5 + Item 2.2 + Item 2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1.6 + Item 1.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1.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2.3 + Item 2.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: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Item 1.2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Logical Product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complex information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1.5 + Item 2.2 + Item 2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em 1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572000"/>
            <a:ext cx="510552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RESS Data Definition Langu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NTIT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nalysis_id : COD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nalysis_assumptions : OPTIONAL DESCRIPTIO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nalysis_type : OPTIONAL STRING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quired_ld_case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: SET [1:?] O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BASIC_LOAD_CA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overning_analyse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R1 : analysis_id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96240" y="3581280"/>
            <a:ext cx="3161160" cy="2075400"/>
            <a:chOff x="5196240" y="3581280"/>
            <a:chExt cx="3161160" cy="2075400"/>
          </a:xfrm>
        </p:grpSpPr>
        <p:sp>
          <p:nvSpPr>
            <p:cNvPr id="99" name=""/>
            <p:cNvSpPr/>
            <p:nvPr/>
          </p:nvSpPr>
          <p:spPr>
            <a:xfrm>
              <a:off x="5747400" y="3581280"/>
              <a:ext cx="1467000" cy="39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ANALY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96240" y="5257800"/>
              <a:ext cx="2686320" cy="39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BASIC_LOAD_C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2960" y="403848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90440" y="4343400"/>
              <a:ext cx="18669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required_ld_cases 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governing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_analy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68600" y="4152960"/>
            <a:ext cx="423648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NTIT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BASIC_LOAD_C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asic_load_case_number : INTEGE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asic_load_label : OPTIONAL labe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asic_load_case_type : bl_typ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asic_load_case_factor : REA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overning_analyse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: SET [0:?] O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ANALYSI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R1 : basic_load_case_numbe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2-09T16:27:54Z</cp:lastPrinted>
  <dcterms:modified xsi:type="dcterms:W3CDTF">1999-02-25T00:20:44Z</dcterms:modified>
  <cp:revision>17</cp:revision>
  <dc:subject/>
  <dc:title>AISC CIS/2  Workshop #I</dc:title>
</cp:coreProperties>
</file>